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28B-5757-46F7-818B-5CDEA36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976-A094-4010-AA3F-FF6FD21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705D8-36C4-4312-8C2D-5589AE70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50F68-369F-4220-BA89-74178D9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1A5E9-59D1-4300-8F99-776EDAE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63D1A-19F7-4FF0-B4EA-C59B2EA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22BF5-16CE-4609-8444-3EE3DCE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4B57B-302E-409A-89C8-2302307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65F54-A61F-4A07-B263-5638C823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DDF25-1767-4C66-8744-7D3D220F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169C2-3E46-4422-A435-1BEC9F20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BA0E7-B53A-4207-91D0-6021529F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490-49BF-417F-A827-226B042B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6ECAC-EE21-450D-8D54-5234BC0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C9336-DD50-4957-A1A4-870B80BF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E0407-2215-4132-B841-ED1842D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72627-8BED-4F40-8DA9-69081789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07F2A-67D1-4A96-B7ED-ECF4D05A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08F9-7335-4BD9-86EF-7C8242F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781C-A6AD-47E2-A603-35D590A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0C3F0-D28E-473F-94A1-B8459F7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26713-8FE6-4BE6-9803-4A2754F1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B5C9A-0D17-4434-8961-5AC4B239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171-0089-4358-9B6B-32175813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6132F-DD59-4E6B-9B13-D4B9AD1B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9EC12-8E13-40A2-AAB7-5A1FBEC9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C2A0-EC11-4DB4-8185-3F6F2AEB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8FFF-F658-4456-9CB7-343B5249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52F55-1044-4D8B-97B2-3C82F5A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235DC-A7B7-4491-9643-7B57927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18C0C-3DF3-47DA-9AF6-D55F3EFC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34A46-6F55-4A76-B9E1-67E41E4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AB7A-A7E8-45B6-A041-FF3AD68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CA44-6AAE-40D1-81F5-3C92802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06A-9D86-44C5-B3A5-6E2F8BE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F58DE-341A-4ECF-91F5-959672B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CD7AC-E7F4-49A5-B17E-74A91C41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DDCD0-5A94-4AF3-8A95-5D64B694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B4309-DCAB-4F08-A891-90BC6108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5734E-02C4-4A99-9F6D-552F151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210EF-95E3-4272-A4AC-94B2DA4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9DE3B-B506-42AF-BAF7-ADAFC230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05A07-DCDE-4350-A724-9AA1656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819E-ED20-4170-A088-A40DD53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7875B-C1A6-44FD-8908-B03BBA1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7A8D-C5C1-40F8-AF90-18074503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EE118-2D24-4275-8798-B5B6B3F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86953-C285-41F8-88A9-123C4D7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BFBE0-D0DB-429F-AB16-053499F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A7EF-9696-4E9B-8602-39F0A10B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AB5FD-EA59-485E-A538-49E41A90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8848-9BB7-4B95-B61E-EEE657C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B16-DBFE-4079-B2D3-3FDAF32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2EFE-9A2A-428F-9B6A-5829E759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41E1-ABBC-42B0-9021-61D24222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B16-72A2-4A32-B4A5-452B375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AE7-64A2-4B5F-BC5E-5A31D51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A272-6773-4F4B-82D7-CDF9971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E53-150D-4D0C-B6DB-0315B6E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DEC7-C0A7-4C9C-B6E6-014355C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A3CF-73A0-4C87-989C-2F7F0BB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24B-5220-4A9A-9DF1-8EC917AD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E206-830F-4479-B40C-553093DF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3CFC-27FE-45F5-9EEB-713CC7E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BFB1-D1EE-40ED-BCF7-536EFC4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D8B9-4257-4D14-852D-D8E3D88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104C-930A-4E57-AA15-6811E645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639-D15A-45DF-BBE7-AF83933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B083-B533-4310-B200-ED351AD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9D55-AF0B-44F8-BBC9-0953BCA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00E3-8AEB-4C11-B19F-536DE64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A592-A79C-4F70-93DF-212CF31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EA52-4DAD-4F28-B4D1-36A5DF9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0DFF-FEBF-4504-AFBC-3191E4B2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391E-CFE8-4DCF-A2DD-093AB5AD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DADE-0A61-4081-801B-A82069F0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D8A0-9451-4FF1-8CD3-D39C7D4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7077-8630-44DD-B42A-105F710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DB0-3A59-43B1-978B-E83EE627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FE97-C728-4B40-94F1-C66279BE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B700-7926-4A0C-9145-2D93DD9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AF8E-D56E-428C-8EF3-D28C6878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417B-17C7-487A-B102-88D960F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DE4B-7883-4443-BFAE-2FF8D94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F7F9-1A4D-4BE0-A457-8C7044E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A7B1-538B-49FA-BA9C-000E9C6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4AC7-4129-4069-9C75-AD35D267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4ED0-0CEE-4F91-973A-15AFD981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5E51-91B4-4AD9-8E75-3AA8BAC1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134-18D4-40EE-8F77-76E55781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8FB9-D039-41E9-907E-5AACF00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6B68-A8A3-4F1A-B24A-CEE95F1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52E5-FA8A-45BD-8BBD-53FF0CD8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69DF-6D13-4970-B373-ECC91E5A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2BD2-9562-4AA7-A45F-F6B27FA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E977-9CDB-490E-9D1A-CEF792E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92DC-4C8C-4E22-A61C-D4E91C5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3A95-AFAC-431B-9B81-1CA6842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5A62-BF44-4146-BCE5-D08A3E9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D35FF-6E73-45F2-BA22-126076D1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E57-B593-4772-BB82-8791430F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BC02-A7E8-480D-835A-B5ABAC69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8A26-CB74-4ACF-9EE9-8D7B66F1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B71C-42ED-4EA6-A9A7-E4F21F4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6D0D-9D06-4351-AC8C-6F9EDD4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94A4-37F6-451C-80AB-B8249906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130B-64C6-4D13-88D1-A7E8482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BC14A-71D3-44C8-95A8-B0974434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4E30-1FFB-4578-948D-07C220A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3E2F-72B0-479A-A2D9-73F27AD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2166-F212-4218-B368-8CBED96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5BC-32A7-4AD4-80F2-011B2E34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0103-5595-4669-9D72-44D56F1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F75B-D696-4E2E-B49C-01610A5E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9499-434B-4613-9D65-EB1EC39C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0777-AA37-4350-9CDB-584C23A9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979CF-F22C-4E76-A4A0-F4DAC8E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D63F-DAD5-4643-AE99-AFE36C5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C0ED4-219F-4DA9-A5D0-547A1ABA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FF108-277F-4335-82E3-617E390D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FB41-CCE2-4773-8251-398A800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B639-38FE-433C-90E1-BA54257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4C3-C376-4054-9621-AFDDB44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59475-8794-4505-9C48-8314640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231C-D977-434D-AA08-40F4E4E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AACF-7F6F-43E6-9BE6-FE0A3998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14256-8C95-410F-B49A-76CECA77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A2BD-91D8-4CE0-AFE0-54BF1E13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DB8F-0184-4CE7-8A57-DC5A0E1D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9E961-1FAF-4975-986E-2ACDD44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8A13-4D02-460A-992E-2128277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48214-C3E3-4CED-B20E-C360B38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4CC85-9314-4C86-96CF-96E721A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247-D95E-494E-B6AC-33F662C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FB384-0F4D-4767-9453-7957F02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81BC-1220-4D68-A9A5-A3FCDF5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426B-D64D-4555-9C98-CD34BD4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CE85-CFD2-4432-9801-63AF936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41B7-BB67-4A86-9993-27E4B32E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2099-6033-47B9-AAFF-6BC873B0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B1AE-B552-420D-AB1E-72B2DB38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8BEB-5A31-4F98-8FFD-3644C59C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C9CA9-BAC8-483E-86FA-BC269D8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8D094-6775-48BE-B091-C7204D61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F541-4EA6-4749-9026-DC5697A457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EEE-4409-488E-8D3D-1FDB744334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F510-FF6A-4043-9EBE-F9EC2522A8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E67-94B3-4A17-A8D3-7730905CE8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FCA5-E636-4C6C-8584-2C59531A9C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026-5B79-4E60-BDBD-5A8D287F77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4F4E-5AFB-42D1-81A7-33F77F7C2B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CB7-1B99-4521-B833-EF73CECE91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03C3-7A60-4521-84C1-F3C78CEDEE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57B-22A6-4E24-9EBE-FDD2EB7070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A77-7BDB-4FD7-84E6-D5E115FB52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B97C-1576-43F3-9973-65358B92C7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2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 teba zrak svoj upie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9506160" cy="38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zrak svoj upier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ane s dôv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priateľom si najlepš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evnou opor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ch, úzkosť mať už nemus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môj si pevný hra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radostne ísť za t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podľa tvojich rá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 o mňa verne db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š nado mnou, to v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voju lásku nesmier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vrúcne ďakuj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DUMAS Ing. Dušan Bielik</cp:lastModifiedBy>
  <dcterms:modified xsi:type="dcterms:W3CDTF">2025-09-04T13:52:32Z</dcterms:modified>
  <cp:revision>3</cp:revision>
  <dc:subject/>
  <dc:title>301  Keď svit slnka stráca jas</dc:title>
</cp:coreProperties>
</file>